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6ED-84F0-48EE-9891-4FC614CE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807-68A9-40F7-82EE-4FB9CA8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223-101D-4726-808D-C10DB129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D74-5ED8-403E-9510-804656A1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0752-1E8F-4807-ABF2-F32F8154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0994-D784-48A4-B877-F39D0027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19E-B658-4D5A-8495-5C58FFD2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D08-49AA-47E9-BFE7-3830B6CF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95D-7E2B-4D28-8B22-AD4CF7C8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45AC-BC68-408E-A4D7-0F2B76A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1B12-CED9-432C-A854-563930C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F9F-DB0A-4C5F-9942-3A5F1F65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AF54-9495-4071-8136-E023D422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75B5-4D2B-481D-9273-6F8D073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CDCB-4CE1-45E5-8A6C-DB77564C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E4EE-283E-4082-9A67-C08322A4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444-AB15-41AD-893B-11194A1D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992-59ED-4D73-9A91-DD71FCF0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E1C-858D-464B-9B22-01B30C7D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B07-9047-4A70-8B68-F2CACDB7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609-9FA1-47F1-B9C7-4A068063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6F8-DE7B-44A9-89D0-F596051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003-3F85-43FF-A1F8-3E9165F9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836-3AFA-465E-9B33-C1610E11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4D88-B537-4935-8659-B34D56979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2A6-444D-4377-B9D2-3A9989EDA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hockeyliquidation.com/images/field_hockey_players.jpg&amp;imgrefurl=http://hockeyliquidation.com/&amp;usg=__wG3wB8oM5dOf84gdZ1KIyfOgzxY=&amp;h=360&amp;w=398&amp;sz=138&amp;hl=en&amp;start=4&amp;tbnid=qdQoJOgMspXaaM:&amp;tbnh=112&amp;tbnw=124&amp;prev=/images%3Fq%3Dfield%2Bhockey%2Bplayers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newsimg.bbc.co.uk/media/images/42081000/jpg/_42081344_hockey_416_300.jpg&amp;imgrefurl=http://news.bbc.co.uk/sport2/hi/photo_galleries/photos_of_the_day/5341334.stm&amp;usg=__Rq4ITqjZRne4XTvf8bYP2O8AKIU=&amp;h=300&amp;w=416&amp;sz=25&amp;hl=en&amp;start=12&amp;tbnid=9HK7NMq4Wyrf1M:&amp;tbnh=90&amp;tbnw=125&amp;prev=/images%3Fq%3Dfield%2Bhockey%2Bplayers%26gbv%3D2%26hl%3Den%26sa%3D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Comic Sans MS"/>
              </a:rPr>
              <a:t>Preparation Of The Body for hocke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653000"/>
            <a:ext cx="287964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3860640"/>
            <a:ext cx="3313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CRE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So that you have the ability to run at a variety of speeds for the duration of the game (70 mi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o provide support in defence and attack for the duration of the g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o keep up with play for the duration of the game and not be caught out of posi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o have the ability to move at high intensities when required even towards the end of a ga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66"/>
                </a:solidFill>
                <a:latin typeface="Comic Sans MS"/>
              </a:rPr>
              <a:t>The longer a player can perform using aerobic pathways, the longer they can perform without the negative affects of fatigu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Comic Sans MS"/>
              </a:rPr>
              <a:t>Which test is used to measure how good an individuals CRE i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MULTI-STAGE FITNES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Starte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me the four parts to the CYCLE OF ANALY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Name the 3 TYPES of fi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me the 6 aspects of physical fi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Which 2 aspects are most important to hock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fine these 2 aspects of fi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Which standardised tests are used to measure these 2 aspects of fitn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 of SPE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Speed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i="1" lang="en-GB" sz="3200" spc="-1" strike="noStrike">
                <a:solidFill>
                  <a:srgbClr val="ffff66"/>
                </a:solidFill>
                <a:latin typeface="Comic Sans MS"/>
                <a:ea typeface="Times New Roman"/>
              </a:rPr>
              <a:t>The ability to cover a distance in a short period of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SPEED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It is vital to have speed when tracking back to defend in order to get into position ahead of the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It is vital to have speed when supporting the attack in order to get into position ahead of the def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Wide midfielders must have pace to drive down the line and beat their opponent either with the ball or to get into space to receive the b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Comic Sans MS"/>
              </a:rPr>
              <a:t>Which test is used to measure how fast an individual i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35 metre spr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Skill related aspect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g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actio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-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 of AG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gility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The ability to move the body quickly and precisely”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agility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o be able to dribble the ball around defe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receive a pass effectiv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o block/intercept/save sho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get into position for a s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o react to the changes in possession as defence turns into attack and vice 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at test is used to measure how agile an individual i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linois agility ru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CYCLE OF ANALY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2133720"/>
            <a:ext cx="252072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573360"/>
            <a:ext cx="201636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5157720"/>
            <a:ext cx="201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3645000"/>
            <a:ext cx="20894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ental aspect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termin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 of motiv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ivation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What drives a performer to improve and succeed.”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is motivation importan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in poor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when t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raining when practice is repet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Exam ques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rom an activity of your choice, select the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w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ain aspects of fitness in that activity and explain wh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ac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is important 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ou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erformance.  (4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Starte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tario comeback – ’09 gold medal – field hockey nat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atch the video of the hockey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ive 2 situations wh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ayer used speed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layer used agility we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Methods of Gathering Informatio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Methods of gathering in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There are 2 types of testing we will use to assess performa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Standardise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01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Match Analysis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andardised Te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0 metre shuttle ru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5 metre sprin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linois agility ru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tandardised tes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tandardised fitness test have a set structur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his means that whoever is carrying them out and wherever they are testing the test must follow exactly the same protocol and procedures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is is vital to ensure the validity and reliability of the test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Task 1 –  Describing Standardised Test Protoco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ick 1 test and describe how you would carry i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 as specific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se diagrams to support your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r answer will be marke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eparation of The Body (POB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What does POB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ink about words such 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reparing for (competition, new sea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atch analysis schedu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udies fitness levels whilst participating in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scribe, in detail, how the match analysis is filled out. E.g. describe its protoc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are methods appropria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each fitness test measures is specific to the aspect you want to mea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20 metre shuttle run measures CRE as you have to run constantly for a long period of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5 metre sprint test measures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Match analysis schedule measures speed and CRE in a game by determining the level of intensity you are working at throughout a whole mat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Why this is appropria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li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des a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ermanent rec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Factual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rovides stat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iabl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 can b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epea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using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sam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ont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Interpreting da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does the data tell you about the performer that has been analy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Not just describing th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plain and discuss th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00000" y="189000"/>
          <a:ext cx="7489800" cy="6438960"/>
        </p:xfrm>
        <a:graphic>
          <a:graphicData uri="http://schemas.openxmlformats.org/drawingml/2006/table">
            <a:tbl>
              <a:tblPr/>
              <a:tblGrid>
                <a:gridCol w="1898640"/>
                <a:gridCol w="1781280"/>
                <a:gridCol w="1903320"/>
                <a:gridCol w="190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lti Stage Fitness T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metre spri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llinois agility t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aran Gallagh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erce Houlih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omas Kid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hen Lav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cob Leis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am Linds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tin McGui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9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aran McAte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ny McBet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clan McGallag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thew McIlwh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ddy McIn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ohn McKeow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8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e McKeow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eran Mulle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k Oswa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m Rud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or Scot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an Tom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CYCLE OF ANALYSI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2133720"/>
            <a:ext cx="252072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573360"/>
            <a:ext cx="2016360" cy="93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157720"/>
            <a:ext cx="201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3645000"/>
            <a:ext cx="20894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ethods of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improve a SPECIFIC aspect of fitness (e.g. CRE), you must carry out a SPECIFIC type of training (e.g. Fartlek Traini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the Method of Training selected is not appropriate for the aspect of fitness, then no improvements will b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ethods of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improve Cardio-Respiratory Endurance use Fartlek Training and Continuous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improve Speed use Interval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Fartlek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METHOD OF TRAINING used to develop your 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s developed in Sweden and translates to ‘speed pla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volves working at a variety of paces (walking, jogging. ¾ pace, sprinting) or over varied terrain (hills etc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s SPECIFIC to hockey as when playing hockey you are required to use various means of trav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Interval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d to improve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erval training involves periods of exercise which is broken up by periods of 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terval training is based on work:rest ratios.  To improve Speed, you must rest for longer than you are working for, and a 1:4 ratio is normally folllow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3 TYPE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Phys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Skill – 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M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Interval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1905120"/>
          <a:ext cx="8007120" cy="4190400"/>
        </p:xfrm>
        <a:graphic>
          <a:graphicData uri="http://schemas.openxmlformats.org/drawingml/2006/table">
            <a:tbl>
              <a:tblPr/>
              <a:tblGrid>
                <a:gridCol w="2001960"/>
                <a:gridCol w="2001600"/>
                <a:gridCol w="2001600"/>
                <a:gridCol w="200196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etitio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ver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s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inciples of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pecif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ver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ns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ver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Training Program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e make SPECIFIC to hockey as we are trying to improve our individual performance in this activity through improving our fit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PECIFIC to HOCKEY as in hockey you are required to change your speed form walking pace up to sprinting, and FARTLEK training does th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PECIFIC to HOCKEY as you are including small sided games of hockey in each 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ogramme Of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80880" y="1676520"/>
            <a:ext cx="8457840" cy="4960800"/>
            <a:chOff x="380880" y="1676520"/>
            <a:chExt cx="8457840" cy="4960800"/>
          </a:xfrm>
        </p:grpSpPr>
        <p:grpSp>
          <p:nvGrpSpPr>
            <p:cNvPr id="193" name=""/>
            <p:cNvGrpSpPr/>
            <p:nvPr/>
          </p:nvGrpSpPr>
          <p:grpSpPr>
            <a:xfrm>
              <a:off x="387360" y="1680120"/>
              <a:ext cx="8443800" cy="4953240"/>
              <a:chOff x="387360" y="1680120"/>
              <a:chExt cx="8443800" cy="49532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87360" y="1680120"/>
                <a:ext cx="784440" cy="424440"/>
                <a:chOff x="387360" y="1680120"/>
                <a:chExt cx="784440" cy="4244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84200" y="1680120"/>
                  <a:ext cx="59076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87360" y="1680120"/>
                  <a:ext cx="78444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172160" y="1680120"/>
                <a:ext cx="2722680" cy="424440"/>
                <a:chOff x="1172160" y="1680120"/>
                <a:chExt cx="2722680" cy="424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269000" y="1680120"/>
                  <a:ext cx="252936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172160" y="1680120"/>
                  <a:ext cx="272268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895200" y="1680120"/>
                <a:ext cx="2183040" cy="424440"/>
                <a:chOff x="3895200" y="1680120"/>
                <a:chExt cx="2183040" cy="4244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992040" y="1680120"/>
                  <a:ext cx="198936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95200" y="1680120"/>
                  <a:ext cx="218304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078960" y="1680120"/>
                <a:ext cx="1375920" cy="424440"/>
                <a:chOff x="6078960" y="1680120"/>
                <a:chExt cx="1375920" cy="4244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175800" y="1680120"/>
                  <a:ext cx="118224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078960" y="1680120"/>
                  <a:ext cx="137592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7455240" y="1680120"/>
                <a:ext cx="1375920" cy="424440"/>
                <a:chOff x="7455240" y="1680120"/>
                <a:chExt cx="1375920" cy="4244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551360" y="1680120"/>
                  <a:ext cx="1182600" cy="4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ession 4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55240" y="1680120"/>
                  <a:ext cx="1375920" cy="42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87360" y="2104560"/>
                <a:ext cx="784440" cy="990000"/>
                <a:chOff x="387360" y="2104560"/>
                <a:chExt cx="784440" cy="990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84200" y="2104560"/>
                  <a:ext cx="59076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1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87360" y="2104560"/>
                  <a:ext cx="78444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1172160" y="2104560"/>
                <a:ext cx="2722680" cy="990000"/>
                <a:chOff x="1172160" y="2104560"/>
                <a:chExt cx="2722680" cy="9900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269000" y="2104560"/>
                  <a:ext cx="252936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arm U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0 minutes continuous running at 70-80% heart rate maximum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mall sided gam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Cool dow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172160" y="2104560"/>
                  <a:ext cx="272268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95200" y="2104560"/>
                <a:ext cx="2183040" cy="990000"/>
                <a:chOff x="3895200" y="2104560"/>
                <a:chExt cx="2183040" cy="9900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992040" y="2104560"/>
                  <a:ext cx="198936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arm Up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0 minute fartlek sess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Small sided gam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Cool dow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95200" y="2104560"/>
                  <a:ext cx="218304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6078960" y="2104560"/>
                <a:ext cx="1375920" cy="990000"/>
                <a:chOff x="6078960" y="2104560"/>
                <a:chExt cx="1375920" cy="990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175800" y="2104560"/>
                  <a:ext cx="118224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078960" y="2104560"/>
                  <a:ext cx="137592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7455240" y="2104560"/>
                <a:ext cx="1375920" cy="990000"/>
                <a:chOff x="7455240" y="2104560"/>
                <a:chExt cx="1375920" cy="990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551360" y="2104560"/>
                  <a:ext cx="1182600" cy="99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s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55240" y="2104560"/>
                  <a:ext cx="1375920" cy="99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87360" y="3094920"/>
                <a:ext cx="784440" cy="636840"/>
                <a:chOff x="387360" y="3094920"/>
                <a:chExt cx="784440" cy="6368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84200" y="3094920"/>
                  <a:ext cx="5907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7360" y="3094920"/>
                  <a:ext cx="7844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172160" y="3094920"/>
                <a:ext cx="2722680" cy="636840"/>
                <a:chOff x="1172160" y="3094920"/>
                <a:chExt cx="2722680" cy="636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269000" y="3094920"/>
                  <a:ext cx="252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172160" y="3094920"/>
                  <a:ext cx="272268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895200" y="3094920"/>
                <a:ext cx="2183040" cy="636840"/>
                <a:chOff x="3895200" y="3094920"/>
                <a:chExt cx="2183040" cy="636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992040" y="3094920"/>
                  <a:ext cx="198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95200" y="3094920"/>
                  <a:ext cx="21830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078960" y="3094920"/>
                <a:ext cx="1375920" cy="636840"/>
                <a:chOff x="6078960" y="3094920"/>
                <a:chExt cx="1375920" cy="636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175800" y="3094920"/>
                  <a:ext cx="118224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078960" y="30949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455240" y="3094920"/>
                <a:ext cx="1375920" cy="636840"/>
                <a:chOff x="7455240" y="3094920"/>
                <a:chExt cx="1375920" cy="636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551360" y="3094920"/>
                  <a:ext cx="118260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s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55240" y="30949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387360" y="3732120"/>
                <a:ext cx="784440" cy="754560"/>
                <a:chOff x="387360" y="3732120"/>
                <a:chExt cx="784440" cy="7545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84200" y="3732120"/>
                  <a:ext cx="59076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3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7360" y="3732120"/>
                  <a:ext cx="78444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172160" y="3732120"/>
                <a:ext cx="2722680" cy="754560"/>
                <a:chOff x="1172160" y="3732120"/>
                <a:chExt cx="2722680" cy="7545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269000" y="3732120"/>
                  <a:ext cx="252936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1 (wk 1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25 minutes</a:t>
                  </a: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 continuous running at 70-80% heart rate maximum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72160" y="3732120"/>
                  <a:ext cx="272268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895200" y="3732120"/>
                <a:ext cx="2183040" cy="754560"/>
                <a:chOff x="3895200" y="3732120"/>
                <a:chExt cx="2183040" cy="754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992040" y="3732120"/>
                  <a:ext cx="198936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2 (wk 1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25 minute</a:t>
                  </a: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 fartlek sess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95200" y="3732120"/>
                  <a:ext cx="218304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078960" y="3732120"/>
                <a:ext cx="1375920" cy="754560"/>
                <a:chOff x="6078960" y="3732120"/>
                <a:chExt cx="1375920" cy="754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75800" y="3732120"/>
                  <a:ext cx="118224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3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078960" y="3732120"/>
                  <a:ext cx="137592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455240" y="3732120"/>
                <a:ext cx="1375920" cy="754560"/>
                <a:chOff x="7455240" y="3732120"/>
                <a:chExt cx="1375920" cy="7545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551360" y="3732120"/>
                  <a:ext cx="1182600" cy="75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s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455240" y="3732120"/>
                  <a:ext cx="1375920" cy="75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87360" y="4487040"/>
                <a:ext cx="784440" cy="636840"/>
                <a:chOff x="387360" y="4487040"/>
                <a:chExt cx="784440" cy="636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84200" y="4487040"/>
                  <a:ext cx="5907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4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87360" y="4487040"/>
                  <a:ext cx="7844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172160" y="4487040"/>
                <a:ext cx="2722680" cy="636840"/>
                <a:chOff x="1172160" y="4487040"/>
                <a:chExt cx="2722680" cy="6368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269000" y="4487040"/>
                  <a:ext cx="252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3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172160" y="4487040"/>
                  <a:ext cx="272268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895200" y="4487040"/>
                <a:ext cx="2183040" cy="636840"/>
                <a:chOff x="3895200" y="4487040"/>
                <a:chExt cx="2183040" cy="6368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92040" y="4487040"/>
                  <a:ext cx="198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95200" y="4487040"/>
                  <a:ext cx="21830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078960" y="4487040"/>
                <a:ext cx="1375920" cy="636840"/>
                <a:chOff x="6078960" y="4487040"/>
                <a:chExt cx="1375920" cy="6368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175800" y="4487040"/>
                  <a:ext cx="118224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78960" y="448704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455240" y="4487040"/>
                <a:ext cx="1375920" cy="636840"/>
                <a:chOff x="7455240" y="4487040"/>
                <a:chExt cx="1375920" cy="6368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551360" y="4487040"/>
                  <a:ext cx="118260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Repeat session 2 (wk 1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455240" y="448704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387360" y="5123880"/>
                <a:ext cx="784440" cy="872280"/>
                <a:chOff x="387360" y="5123880"/>
                <a:chExt cx="784440" cy="872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4200" y="5123880"/>
                  <a:ext cx="59076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5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87360" y="5123880"/>
                  <a:ext cx="78444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172160" y="5123880"/>
                <a:ext cx="2722680" cy="872280"/>
                <a:chOff x="1172160" y="5123880"/>
                <a:chExt cx="2722680" cy="8722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269000" y="5123880"/>
                  <a:ext cx="252936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1 (wk 3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5 minute fartlek session </a:t>
                  </a: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(replace 1 walk with a jog and increase length of sprint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172160" y="5123880"/>
                  <a:ext cx="272268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895200" y="5123880"/>
                <a:ext cx="2183040" cy="872280"/>
                <a:chOff x="3895200" y="5123880"/>
                <a:chExt cx="2183040" cy="872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992040" y="5123880"/>
                  <a:ext cx="198936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As session 2 (wk 3) bu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25 minutes continuous running at </a:t>
                  </a:r>
                  <a:r>
                    <a:rPr b="1" lang="en-GB" sz="1200" spc="-1" strike="noStrike" u="sng">
                      <a:solidFill>
                        <a:srgbClr val="ffffff"/>
                      </a:solidFill>
                      <a:uFillTx/>
                      <a:latin typeface="Arial"/>
                      <a:ea typeface="Arial Unicode MS"/>
                    </a:rPr>
                    <a:t>75-85%</a:t>
                  </a: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 heart rate maximum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95200" y="5123880"/>
                  <a:ext cx="218304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078960" y="5123880"/>
                <a:ext cx="1375920" cy="872280"/>
                <a:chOff x="6078960" y="5123880"/>
                <a:chExt cx="1375920" cy="87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175800" y="5123880"/>
                  <a:ext cx="118224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78960" y="5123880"/>
                  <a:ext cx="13759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455240" y="5123880"/>
                <a:ext cx="1375920" cy="872280"/>
                <a:chOff x="7455240" y="5123880"/>
                <a:chExt cx="1375920" cy="872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551360" y="5123880"/>
                  <a:ext cx="11826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455240" y="5123880"/>
                  <a:ext cx="13759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387360" y="5996520"/>
                <a:ext cx="784440" cy="636840"/>
                <a:chOff x="387360" y="5996520"/>
                <a:chExt cx="784440" cy="636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84200" y="5996520"/>
                  <a:ext cx="5907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Wk 6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87360" y="5996520"/>
                  <a:ext cx="7844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172160" y="5996520"/>
                <a:ext cx="2722680" cy="636840"/>
                <a:chOff x="1172160" y="5996520"/>
                <a:chExt cx="2722680" cy="636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269000" y="5996520"/>
                  <a:ext cx="252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172160" y="5996520"/>
                  <a:ext cx="272268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95200" y="5996520"/>
                <a:ext cx="2183040" cy="636840"/>
                <a:chOff x="3895200" y="5996520"/>
                <a:chExt cx="2183040" cy="636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92040" y="5996520"/>
                  <a:ext cx="198936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95200" y="5996520"/>
                  <a:ext cx="218304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078960" y="5996520"/>
                <a:ext cx="1375920" cy="636840"/>
                <a:chOff x="6078960" y="5996520"/>
                <a:chExt cx="1375920" cy="636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175800" y="5996520"/>
                  <a:ext cx="118224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1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78960" y="59965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7455240" y="5996520"/>
                <a:ext cx="1375920" cy="636840"/>
                <a:chOff x="7455240" y="5996520"/>
                <a:chExt cx="1375920" cy="636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551360" y="5996520"/>
                  <a:ext cx="118260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Arial"/>
                      <a:ea typeface="Arial Unicode MS"/>
                    </a:rPr>
                    <a:t>Repeat session 2 (wk 5)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455240" y="5996520"/>
                  <a:ext cx="1375920" cy="6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" name=""/>
            <p:cNvSpPr/>
            <p:nvPr/>
          </p:nvSpPr>
          <p:spPr>
            <a:xfrm>
              <a:off x="380880" y="1676520"/>
              <a:ext cx="8457840" cy="4960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ogramme Of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programme of work considers progression and overload at weeks 3, 4 and 5.  At week 3 the duration is increased; at week 4 the frequency is increased and at week 5 the intensity is increase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ach session includes a small-sided game in order to ensure that skill related aspects of fitness continue to be develop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Monitoring Train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t is vital that a training diary is maintained, when completing a programme of work, in order to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nsure prog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is is important, as the programme may need </a:t>
            </a:r>
            <a:r>
              <a:rPr b="0" lang="en-GB" sz="3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odifi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..con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f it is too easy it may need to be progressed more quickly to ensure improvements ar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If it is too difficult the work load may need to be reduced to avoid injury or over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ining Diary shoul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)Work completed  ii)How player felt at end of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Evaluating Programme Of Wor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-test using sam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mpare and contrast your result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rep Of the Body TEST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mework di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esday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Octo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ok over all notes and read through the course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Physical ASPECTS of Fitne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Local Muscular Endur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Streng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Flexi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Cardio-respiratory End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Definitions</a:t>
            </a: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In pairs try to match up the definitions to the aspects of physical fi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ability to cover a distance in a short period of tim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ability of the whole body to work continuously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</a:rPr>
              <a:t>The range of movement across a joint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bility of muscles to work continuousl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aximum amount of force a muscle or group of muscles can exert in a single effor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ombination of speed and steng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ich TWO physical aspects of fitness are most important for Hock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RE and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Comic Sans MS"/>
              </a:rPr>
              <a:t>Cardio-Respiratory Endura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rdio-Respiratory Enduranc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bility of the heart and lungs to supply the body with oxygen for a prolonged period of tim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bility for whole body to work for long period of ti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3:07:40Z</dcterms:created>
  <dc:creator>DooganS</dc:creator>
  <dc:description/>
  <dc:language>en-US</dc:language>
  <cp:lastModifiedBy>DooganS</cp:lastModifiedBy>
  <dcterms:modified xsi:type="dcterms:W3CDTF">2009-10-06T07:35:51Z</dcterms:modified>
  <cp:revision>43</cp:revision>
  <dc:subject/>
  <dc:title>Preparation Of The Body for hockey</dc:title>
</cp:coreProperties>
</file>